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D73-34DC-4934-A904-B3E336E2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A7A-DA9F-41D7-B152-EE8A4906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201-63FC-4CCA-BC31-042BC78B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875-80AD-463D-B1A0-4EBC23A3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DBAF-CDD6-43D0-A21D-1CA68FC3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F46A-91DF-4EDA-A96D-9D7D366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2E4A-64D6-4BAE-A4EB-F559631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213-9E69-4EBF-8046-E5D2100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F136-3C05-4E5B-AC4B-E28647F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8A46-8D2E-407A-B790-FA037AF8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8A2-9783-497F-9B02-D1AB0BB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D0A-C4DC-41D0-BF92-3E1C2BFC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1C51-D3CC-4E11-8E75-7DCCF4F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DACC-FD80-4AB4-9662-4B311DB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AFE1-F73C-4604-8024-BC319911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59EF-478A-4106-AA05-00F91B77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164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11160" y="356688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5212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164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11160" y="4561920"/>
            <a:ext cx="17420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1A93-1327-4BCD-B420-065BED20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780-B027-4FEA-800D-9384BE0E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624-6464-417F-850B-6EB51856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686-C0B6-4263-A498-486F5523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856800"/>
            <a:ext cx="7772400" cy="10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87A-5F1C-4EC1-8648-B5E7842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2D8-78FB-4DA4-A2B4-69101F3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4840" y="456192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7DC-0620-4809-B554-F01D2AC9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4840" y="3566880"/>
            <a:ext cx="26402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561920"/>
            <a:ext cx="54104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6D9-89A0-4C55-A8EB-EA15B21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B72-664D-453D-9C5A-8786AE6D3B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4555-0425-45B3-883F-93C4177ED3F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orsefun.com/images/girlstnd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iqad.net/images%5CCARECATOR%5Ccarecator06100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ekgirl.com.au/geekgirl/027fans/images/Vali_Myers_Gothy60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uwww.tcu.edu/~aagrissom/cande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باستطاعتك ان تأخذ الحصان الى حوض الماء</a:t>
            </a:r>
            <a:br>
              <a:rPr sz="4100"/>
            </a:b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لا تستطيع ان تجبره على الشر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508640"/>
            <a:ext cx="1079640" cy="103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6EF-DE49-47A9-A1A4-7113CD8A9A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اشخاص الذين لا يخطئون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هم الاشخاص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لذين لا يعملو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315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824-0257-4187-8BB2-6FA1BC7413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عتبر نفسك انت الرابح دائما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بالاستفاده من تجارب الاخري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437000"/>
            <a:ext cx="1511640" cy="10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3D3-D269-4270-9AB3-17D66AA226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كذب رحله ممتعه احيا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300" spc="-1" strike="noStrike">
                <a:solidFill>
                  <a:srgbClr val="000000"/>
                </a:solidFill>
                <a:latin typeface="Arial"/>
              </a:rPr>
              <a:t>ولكن تذكرة  هذه الرحلة</a:t>
            </a: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 ذهاب فقط وبدون عوده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508640"/>
            <a:ext cx="12240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CF3-B934-4052-82F6-50BA50A518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لوصول الى القمة شيء مطلوب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 المه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هو البقاء فيها اطول وقت ممك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230508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670D-2C40-4B7B-AB86-A7229322B2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ليس المهم ان تكون عظيم في نظرك انت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بل الاه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ن تكون عظيما في نظر الاخري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4149720"/>
            <a:ext cx="662040" cy="13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F8A1-4A42-4374-B701-71AEC59C50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كل الناس قد يحبونك لعدة اسباب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ولكن احرص على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من يحبك في الله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59280" y="4365720"/>
            <a:ext cx="252072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47D-3383-4B09-BE6A-F08F521DEA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ن تكون محبوب من قبل عدة اشخاص</a:t>
            </a:r>
            <a:br>
              <a:rPr sz="4100"/>
            </a:b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فضل من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ن تكون مكروه من الجمي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2087640" cy="13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C92-9ED5-4D93-9C63-959E40F737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خير من ان تسب الظلام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اوقد شمع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3500280"/>
            <a:ext cx="160488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F29-3FE2-4D82-8F5C-CC9427DAB3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336666"/>
                </a:solidFill>
                <a:latin typeface="Arial Black"/>
                <a:cs typeface="Arabic Transparent"/>
              </a:rPr>
              <a:t>ان تجد شخص كامل في جميع تصرفاته امر مستحيل ولكن</a:t>
            </a:r>
            <a:br>
              <a:rPr sz="4100"/>
            </a:b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000000"/>
                </a:solidFill>
                <a:latin typeface="Arial"/>
              </a:rPr>
              <a:t>لايعني ذلك عدم البحث عن الكمال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129528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8FD-57AA-4E35-8017-C00AE2ABC6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اعداد الوجيه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7:48:11Z</dcterms:created>
  <dc:creator>User</dc:creator>
  <dc:description/>
  <dc:language>en-US</dc:language>
  <cp:lastModifiedBy>Alhoshan</cp:lastModifiedBy>
  <dcterms:modified xsi:type="dcterms:W3CDTF">2006-09-06T06:40:02Z</dcterms:modified>
  <cp:revision>8</cp:revision>
  <dc:subject/>
  <dc:title>باستطاعتك ان</dc:title>
</cp:coreProperties>
</file>