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26D-B961-4239-AE15-40182F07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08AF-B9B1-4FC1-8162-D1947E33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F7A-0006-438D-8482-B841DE5D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9C2-2C09-4BBC-AA67-2B1CCAFD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64C4-F634-4271-B53C-6994570B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4E42-4D70-443C-A414-CC87098C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1B9A-F075-4265-82A1-FD5927AC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36DF-8FA8-4EF4-9E97-CDF7903B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D004-2946-4D3B-98DE-FFFAAE1D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7EB6-116B-42FE-A3AE-373C4BC1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2039-86C8-493A-B01C-F4E5176A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255-61E5-4F63-84D5-E0A9A672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BAC9-C6E9-4798-B3A2-EA2CE38B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64D6-3CE3-4C20-A2F2-82798C7E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23AE-8DB7-483D-8BBE-E8FC29D5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1F3F-C2E7-47A5-99A0-BBC28479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115E-6BBC-45CC-BF73-4DD95121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B20-5516-4E79-BF8E-A8683849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D50-969F-41EA-8B96-81BE1A93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DE8-EC96-4130-A632-12D79C85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0E6-F61C-4FA2-8F80-FC3DFF0E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75B-5131-42DD-A0AC-B8266EED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773-81A4-40CF-8422-66A2238A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8F2-A057-45A5-B15C-D5B52BB6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9177-0780-4BE3-B9CF-1AC2EC71B33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B8FA-C746-49A4-9DD0-9867237B885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orsefun.com/images/girlstnd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tiqad.net/images%5CCARECATOR%5Ccarecator061005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ekgirl.com.au/geekgirl/027fans/images/Vali_Myers_Gothy60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uwww.tcu.edu/~aagrissom/candel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باستطاعتك ان تأخذ الحصان الى حوض الماء</a:t>
            </a:r>
            <a:br>
              <a:rPr sz="4100"/>
            </a:br>
            <a:r>
              <a:rPr b="0" lang="ar-JO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ولكن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300" spc="-1" strike="noStrike">
                <a:solidFill>
                  <a:srgbClr val="000000"/>
                </a:solidFill>
                <a:latin typeface="Arial"/>
              </a:rPr>
              <a:t>لا تستطيع ان تجبره على الشرب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4508640"/>
            <a:ext cx="1079640" cy="103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F855-C4D9-483E-BC80-CF77B261A99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الاشخاص الذين لا يخطئون</a:t>
            </a:r>
            <a:br>
              <a:rPr sz="4100"/>
            </a:b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هم الاشخاص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Arial"/>
              </a:rPr>
              <a:t>الذين لا يعملون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80000" y="4292640"/>
            <a:ext cx="123156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B4C0-154B-465C-8FAC-123DD65143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اعتبر نفسك انت الرابح دائما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300" spc="-1" strike="noStrike">
                <a:solidFill>
                  <a:srgbClr val="000000"/>
                </a:solidFill>
                <a:latin typeface="Arial"/>
              </a:rPr>
              <a:t>بالاستفاده من تجارب الاخرين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437000"/>
            <a:ext cx="1511640" cy="10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4453-4EBA-42C6-BD71-DABED23C61E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الكذب رحله ممتعه احيان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300" spc="-1" strike="noStrike">
                <a:solidFill>
                  <a:srgbClr val="000000"/>
                </a:solidFill>
                <a:latin typeface="Arial"/>
              </a:rPr>
              <a:t>ولكن تذكرة  هذه الرحلة</a:t>
            </a:r>
            <a:r>
              <a:rPr b="0" lang="ar-SA" sz="3300" spc="-1" strike="noStrike">
                <a:solidFill>
                  <a:srgbClr val="000000"/>
                </a:solidFill>
                <a:latin typeface="Arial"/>
              </a:rPr>
              <a:t> ذهاب فقط وبدون عوده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4508640"/>
            <a:ext cx="12240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8191-150F-482B-9C23-9FCC6198C2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الوصول الى القمة شيء مطلوب</a:t>
            </a:r>
            <a:br>
              <a:rPr sz="4100"/>
            </a:b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ولكن المهم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Arial"/>
              </a:rPr>
              <a:t>هو البقاء فيها اطول وقت ممكن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48000" y="4508640"/>
            <a:ext cx="2305080" cy="96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5F93-EDF5-426E-AB66-5B6DABF5CD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ليس المهم ان تكون عظيم في نظرك انت</a:t>
            </a:r>
            <a:br>
              <a:rPr sz="4100"/>
            </a:b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بل الاهم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Arial"/>
              </a:rPr>
              <a:t>ان تكون عظيما في نظر الاخرين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4149720"/>
            <a:ext cx="662040" cy="132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8C6B-606A-4408-8562-2C2075EFA9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كل الناس قد يحبونك لعدة اسباب</a:t>
            </a:r>
            <a:br>
              <a:rPr sz="4100"/>
            </a:b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ولكن احرص على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Arial"/>
              </a:rPr>
              <a:t>من يحبك في الله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59280" y="4365720"/>
            <a:ext cx="252072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9F5B-B7C4-4F7A-BC63-834B5CF1801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ان تكون محبوب من قبل عدة اشخاص</a:t>
            </a:r>
            <a:br>
              <a:rPr sz="4100"/>
            </a:b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افضل من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Arial"/>
              </a:rPr>
              <a:t>ان تكون مكروه من الجمي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132000" y="4149720"/>
            <a:ext cx="2087640" cy="139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E1DA-31C0-4C39-AEF9-E8864E6585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خير من ان تسب الظلام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Arial"/>
              </a:rPr>
              <a:t>اوقد شمعة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3500280"/>
            <a:ext cx="160488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A295-51D2-4972-A316-096ED18E53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ان تجد شخص كامل في جميع تصرفاته امر مستحيل ولكن</a:t>
            </a:r>
            <a:br>
              <a:rPr sz="4100"/>
            </a:b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Arial"/>
              </a:rPr>
              <a:t>لايعني ذلك عدم البحث عن الكمال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1295280" cy="102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0D9C-9F76-4604-9108-B71A2F1DC7F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7:48:11Z</dcterms:created>
  <dc:creator>User</dc:creator>
  <dc:description/>
  <dc:language>en-US</dc:language>
  <cp:lastModifiedBy>Alhoshan</cp:lastModifiedBy>
  <dcterms:modified xsi:type="dcterms:W3CDTF">2006-09-06T06:40:02Z</dcterms:modified>
  <cp:revision>8</cp:revision>
  <dc:subject/>
  <dc:title>باستطاعتك ان</dc:title>
</cp:coreProperties>
</file>